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D9E-3B2B-4DB0-860A-FAD4B1AF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653-FA1F-480B-9670-CD5843C1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0FE-A1DD-47FE-B131-00B80A3F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0F1-DD52-423E-8E1B-1E1BE86E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044-4697-4CA1-B542-21837F27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2F6-F9D7-4143-8DE6-599B3C0A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FC0-61F9-4705-8BDF-ADD7F1C1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2DA-8AE4-421B-ABCC-2F7AF85F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E5C-26E6-4BA0-BDD2-F08BB036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C59-FEB8-4888-921A-8C620290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37E-8083-482D-BBAC-00A7C2A7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3B8-2621-42A8-A873-7D257D85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2FA6-32A5-4D06-A221-2F679F709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57400" y="1828800"/>
            <a:ext cx="5181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esiunea iunie 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2</cp:lastModifiedBy>
  <dcterms:modified xsi:type="dcterms:W3CDTF">2012-06-18T10:52:21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